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147-3F4F-41C2-BA84-074B1568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6E7-316D-4301-96A0-C99C1154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58D-E2E1-4F23-B659-482C938E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206-735D-48CB-A2B1-9C282DE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B0B-5B03-48FD-88E7-34F9D33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344-548B-4200-B7D7-7A33CCC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A1F-3488-407D-A04C-38E58F2B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968-8948-4009-9814-C2D67DE8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8F3-54DA-4EF4-8185-F5579E01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60A-FC66-45F7-B251-CE4D596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0F9-A787-4D72-BCF3-6DC74A4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93C-D557-4388-B6CB-FEC588B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0A2-B0D2-4338-9CD5-9EBD8B1A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 Back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izmo and Char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morgan\Pictures\2009-11-30 xmas2\xmas2 007.JPG"/>
          <p:cNvPicPr/>
          <p:nvPr/>
        </p:nvPicPr>
        <p:blipFill>
          <a:blip r:embed="rId1"/>
          <a:stretch/>
        </p:blipFill>
        <p:spPr>
          <a:xfrm>
            <a:off x="228600" y="182880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morgan\Pictures\2009-11-30 xmas2\charlie angel.JPG"/>
          <p:cNvPicPr/>
          <p:nvPr/>
        </p:nvPicPr>
        <p:blipFill>
          <a:blip r:embed="rId2"/>
          <a:stretch/>
        </p:blipFill>
        <p:spPr>
          <a:xfrm>
            <a:off x="4648320" y="182880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 1/7/10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da Morgan, MS, OTR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your neighbor what was the 1 best thing about our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t or To Draw… That is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Quietly Back to your seats or mini-g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ct or To D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divided up into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person from your team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a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have to draw or act what i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inut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no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th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ules may develop during the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3:57:58Z</dcterms:created>
  <dc:creator>morgan</dc:creator>
  <dc:description/>
  <dc:language>en-US</dc:language>
  <cp:lastModifiedBy>otusers</cp:lastModifiedBy>
  <dcterms:modified xsi:type="dcterms:W3CDTF">2010-02-15T15:20:56Z</dcterms:modified>
  <cp:revision>4</cp:revision>
  <dc:subject/>
  <dc:title>Gizmo and Charlie</dc:title>
</cp:coreProperties>
</file>